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192-ECF1-448B-B0BB-E429C38F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867-BFF2-4CA1-AE5E-F7CDF2B2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BBB-A1B5-40CC-BCE4-078B11F1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347-702C-4AC3-A560-FB86E700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A8D-D82F-4821-A74E-22C37BF1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F60-B71F-441A-9251-3FD75E5E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712-DE67-4817-BC72-E0F88C11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804-61B2-403E-8946-FA1B8CDF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287-D111-4C6C-A900-07CB01D5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BE6-2E78-49EB-B090-026C24C3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B6FA-6958-46E5-811A-5632AD1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CBB-E550-4023-AD94-F370DF44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E544-A1CB-40DE-8D10-4B8418E901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/Int 1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2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nd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413000"/>
            <a:ext cx="84582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model performer can assist you performance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ding good f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iving ad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ding feedb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ding model example for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77336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eatur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hot 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hot se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hot technique (P.A.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676520"/>
            <a:ext cx="815328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ate who a model performer ma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ate the characteristics of a model per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how you can use a model performer to assist you 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197000"/>
            <a:ext cx="845820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nswer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) Choos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one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skill or technique from an activity of your choice.  Describe a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odel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of this skill or technique. 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b) Compar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your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of this skill or technique with th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odel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described in Part (a). 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Please complete in your jotters for Wednesday 9</a:t>
            </a:r>
            <a:r>
              <a:rPr b="0" i="1" lang="en-US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8153280" cy="51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ate who a model performer ma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ate the characteristics of a model perfor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how you can use a model performer to assist you to im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066680"/>
            <a:ext cx="334152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B Part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98900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part of the NAB is done under exam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* You will complete this NAB on Wednesday 16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ecember.  You must ensure that you are prepared for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13372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o are th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assm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ac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tional play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133720"/>
            <a:ext cx="84582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 your jotter put the title “Model Performe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rite down 4 characteristics you would expect a model performer to have (this can relate to skill level or mental abilit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341360"/>
            <a:ext cx="84582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haracteristics of a model perform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lu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tro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cellent decision ma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Variety of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nowledge of oppon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700280"/>
            <a:ext cx="87138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odel performers should display all the characteristics mentioned 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consideration of quality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movement analysis schedu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catter graph (should demonstrate good placement the majority of the tim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odel Perform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773360"/>
            <a:ext cx="845820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can a model performer assist you to impro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rite down four suggestions in your jo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2-02T09:51:26Z</dcterms:modified>
  <cp:revision>29</cp:revision>
  <dc:subject/>
  <dc:title>Intermediate PE</dc:title>
</cp:coreProperties>
</file>